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ACA6-31D1-4A18-ACCD-5523B09D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9E31-60CA-4527-8EC4-26710976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2E58-676D-4402-BFEE-DF4453FD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30B-C65D-4335-B90B-DAB812FD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881B-D2D4-4DCE-BE4A-8501E2D5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6B6D-BB7D-4186-81BA-70ADB561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34EA-1BF3-41CD-A45F-7A038A9F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0629-D2C7-45DA-9CF5-BB7CB070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F527-5A25-4BFA-976F-66021C2F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C353-6D01-4861-9CFA-D9846E3D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CDA2-A35F-472B-A857-A6725960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1D6-8251-492A-B418-85F66803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F657-5B68-4D81-9BB0-30E7DEC8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703B-6F8F-457F-80E8-4BACEA45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7FBF-CCD3-4B3A-9096-1A0B3EA6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C6F2-D270-4D3B-B50C-955DA1C9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7C77-AA0D-4763-9F21-F13C1E4B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50A9-E0CA-46AB-B35C-9CB1173D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AA61-938F-4A04-A062-C17ADF0B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7E2-FF59-4950-8E26-BA8B907F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814-5994-48E1-997A-E0C70C5C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5B49-A00E-4A9A-A6CA-76CC9346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8AE-D4CF-4C03-A1E3-33A1F4A3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C5D-CC4F-4C59-89AE-7484EDC2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CF28-8516-4CBF-88E4-AE1C9CF76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03C3-AC9F-4FCC-BFE2-BA372B558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lice_Springs,_Northern_Territory" TargetMode="External"/><Relationship Id="rId2" Type="http://schemas.openxmlformats.org/officeDocument/2006/relationships/hyperlink" Target="http://en.wikipedia.org/wiki/Birdsville,_Queensland" TargetMode="External"/><Relationship Id="rId3" Type="http://schemas.openxmlformats.org/officeDocument/2006/relationships/hyperlink" Target="http://en.wikipedia.org/wiki/Birdsville,_Queensland" TargetMode="External"/><Relationship Id="rId4" Type="http://schemas.openxmlformats.org/officeDocument/2006/relationships/hyperlink" Target="http://en.wikipedia.org/wiki/Broken_Hill,_New_South_Wales" TargetMode="External"/><Relationship Id="rId5" Type="http://schemas.openxmlformats.org/officeDocument/2006/relationships/hyperlink" Target="http://en.wikipedia.org/wiki/Coober_Pedy,_South_Australia" TargetMode="External"/><Relationship Id="rId6" Type="http://schemas.openxmlformats.org/officeDocument/2006/relationships/hyperlink" Target="http://en.wikipedia.org/wiki/Devils_Marbles" TargetMode="External"/><Relationship Id="rId7" Type="http://schemas.openxmlformats.org/officeDocument/2006/relationships/hyperlink" Target="http://en.wikipedia.org/wiki/Kakadu_National_Park" TargetMode="External"/><Relationship Id="rId8" Type="http://schemas.openxmlformats.org/officeDocument/2006/relationships/hyperlink" Target="http://en.wikipedia.org/wiki/Kakadu_National_Park" TargetMode="External"/><Relationship Id="rId9" Type="http://schemas.openxmlformats.org/officeDocument/2006/relationships/hyperlink" Target="http://en.wikipedia.org/wiki/Kata_Tjuta" TargetMode="External"/><Relationship Id="rId10" Type="http://schemas.openxmlformats.org/officeDocument/2006/relationships/hyperlink" Target="http://en.wikipedia.org/wiki/Kata_Tjuta" TargetMode="External"/><Relationship Id="rId11" Type="http://schemas.openxmlformats.org/officeDocument/2006/relationships/hyperlink" Target="http://en.wikipedia.org/wiki/Kata_Tjuta" TargetMode="External"/><Relationship Id="rId12" Type="http://schemas.openxmlformats.org/officeDocument/2006/relationships/hyperlink" Target="http://en.wikipedia.org/wiki/Kings_Canyon,_Northern_Territory" TargetMode="External"/><Relationship Id="rId13" Type="http://schemas.openxmlformats.org/officeDocument/2006/relationships/hyperlink" Target="http://en.wikipedia.org/wiki/Kings_Canyon,_Northern_Territory" TargetMode="External"/><Relationship Id="rId14" Type="http://schemas.openxmlformats.org/officeDocument/2006/relationships/hyperlink" Target="http://en.wikipedia.org/wiki/Kings_Canyon,_Northern_Territory" TargetMode="External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The Outback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e by Kalyn Kauf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What is the Outback?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utback is an immense, secluded, dry area of Austral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ression “the outback” is used to refer to spots that are relatively more secluded than “the bush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Outback History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1858 and 1861 Jon McDouall Stuart led six journeys into the out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ation of the outback was continued in the 1950s when Len Beadell explored, surveyed and built many roads in support of the nuclear weapons 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in 2006, Anna Hingley was the first woman to make the journey riding a ho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Mining In The Outback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ng is one of the other main economic activities in the area, the others being agriculture and touri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ff you can find when you’re mining in the outback are: iron, aluminum, manganese, uranium ores, and you can also find  gold, nickel, iron, lead and zinc 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ajor mining areas are Coober Pedy, Lightning Ridge, White Cliffs, Broken Hill, Tennant Cliff, Olympic Dam, and Challeng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Outback’s Population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riginal homes in the outback areas have not been displaced as they have been in areas of rigorous farming and large cities, in coastal are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a significant proportion of the country's indigenous population lives in the Outbac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Outback Terminology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cept “back” country, which meant, land beyond the settled regions, was in existence in 18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rm “outback” was first used in 186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lloquially said that “the outback” was beyond the black stum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ver-Never” is a term referring to remoter parts of the Australian out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Wildlife in the Outback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find kangaroos and dingoes, hiding in bus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see huge flocks budgerigars, cockatoos, corellas, and gala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see various snakes and lizards all over the roa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also see camels and wild horses called ‘brumbies’, pigs, foxes, cats, and some rabb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ouring Site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ow is a list of touring si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Alice Springs, Northern Territ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Birdsville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, Queensl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Broken Hill, New South Wal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oober Pedy, South Australi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Devils Marbl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Kakadu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 National Pa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Kata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0"/>
              </a:rPr>
              <a:t>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1"/>
              </a:rPr>
              <a:t>Tju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The Olg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2"/>
              </a:rPr>
              <a:t>Kings Canyon (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3"/>
              </a:rPr>
              <a:t>Watarrka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4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cDonnell Rang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unt Isa, Queensl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unt Augustus National Par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nnant Creek, Northern Terri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llandra Lakes Reg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he End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7:58:38Z</dcterms:created>
  <dc:creator>Classroom/Lab</dc:creator>
  <dc:description/>
  <dc:language>en-US</dc:language>
  <cp:lastModifiedBy>Classroom/Lab</cp:lastModifiedBy>
  <dcterms:modified xsi:type="dcterms:W3CDTF">2010-12-16T17:54:12Z</dcterms:modified>
  <cp:revision>10</cp:revision>
  <dc:subject/>
  <dc:title>The Outback</dc:title>
</cp:coreProperties>
</file>